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C46-D613-4145-979A-1FE0AC7F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163-133D-4C29-958E-3A7F242C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153-ED39-4EE6-9A96-5B5885C3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D06-D0E9-4CED-94FE-4A105087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FC9-7135-4D89-AB72-CF64B6B3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BED-C7B0-457C-9019-E56DFE6B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B68-947F-4B9F-8142-45C91F87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2BC-6C21-42BA-AE69-4694FBFF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074-AD0B-4E4F-9F01-A35421E2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31B-F0B0-4B1B-97BB-DF5E5A7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CDA-FF34-447A-B1A0-FD9690D3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7CB-4217-4655-8323-7D56AEB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77CF-0EF0-4B7A-BBED-4CFF3B7A8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RlY0pZhtao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Nonfiction in K-2 Classroo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1828800" cy="1541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429000" y="2590920"/>
            <a:ext cx="3581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1828800" cy="1562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1680" y="1981080"/>
            <a:ext cx="1676520" cy="147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3124080" y="411480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5"/>
          <a:stretch/>
        </p:blipFill>
        <p:spPr>
          <a:xfrm>
            <a:off x="7315200" y="4724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6"/>
          <a:stretch/>
        </p:blipFill>
        <p:spPr>
          <a:xfrm>
            <a:off x="990720" y="4648320"/>
            <a:ext cx="1495440" cy="167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7"/>
          <a:stretch/>
        </p:blipFill>
        <p:spPr>
          <a:xfrm>
            <a:off x="5334120" y="4114800"/>
            <a:ext cx="140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Implement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tart small… what are two strategies you can implement today in your classroom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ollaborate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Keep it simple.  You can always build on a concept for the next time arou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371600" y="4495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What is Nonfi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en a person hears nonfiction they most likely think of a text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However, nonfiction is prose writing based on f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3913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Why is Nonfiction Import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ddresses student’s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Naturally curious about the world aroun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Increases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Expands vocabulary and knowledge on topics throughou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Prepares students for later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eaches how to read information, pull out the main idea and supporting detail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Start at an Early 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Exposing students to nonf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literature in preschool and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primary grades will benefit them in their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The video below will discuss some important steps to remember when choosing nonfiction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youtube.com/watch?v=eRlY0pZhta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Strategies For Classroom 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Implementing something new in the classroom usually leads to obsta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im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ree models for teaching nonfiction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eacher direct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caffold student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Independent student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3520" y="5183280"/>
            <a:ext cx="807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Activities for Classroom 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Kindergarten Activities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KWL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Read Alou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cholastic, Weekly Reader, Mailbox, Discov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Reader's 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Vocabular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Main idea, details, determining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First and Second Grade Activities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Graphic Organ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3-2-1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Cloze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Idea circles--peer led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Quick w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trategies for Reading On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Research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Activities for Classroom 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14800" y="2209680"/>
            <a:ext cx="4648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Learning Logs- Are used as a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activity and can be a form of communication between the student and teacher. These notebooks record information on a specific topic and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on going throughout the school yea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5800" y="1066680"/>
            <a:ext cx="320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Podcasts- Can be used to learn information on a topic.  Students can gain exposure to technology through the creation of their own podcasts on different top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57200" y="4038480"/>
            <a:ext cx="38862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Text Features- Are features in a nonfiction book that provide extra details to the reader.  Text features treasure hunts provide students a fun way to recognize text features in a variety of nonfiction boo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Time to 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e are going to read a nonfiction story alou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s we read _____________ think about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You will respond to them in a learning log forma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Learning Lo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y did the author write th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at did you know before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How can you connect this to you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at was one new thing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at questions do you still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ummar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715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23:16:32Z</dcterms:created>
  <dc:creator> </dc:creator>
  <dc:description/>
  <dc:language>en-US</dc:language>
  <cp:lastModifiedBy> </cp:lastModifiedBy>
  <dcterms:modified xsi:type="dcterms:W3CDTF">2011-12-05T02:41:05Z</dcterms:modified>
  <cp:revision>20</cp:revision>
  <dc:subject/>
  <dc:title>Slide 1</dc:title>
</cp:coreProperties>
</file>